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241B-E78E-4B76-8564-D1D393A4B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6A6C-DFFE-468D-A873-41295572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4829-96B2-449B-A3CA-862B735D1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4EE9-9543-4D5A-8DEB-B542546CC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E657-F7EE-456A-B734-971A796B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8A1B-E0B1-4595-815C-182C2EDF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FD4D-9F7D-4E8A-8A65-54BB687A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F5AA-3C53-43FB-A329-77CAC6C4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694A-07E8-4BEC-8322-42045BDA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D918-C3B5-4192-89F5-A2A2E6F5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AB5E-C5AE-487C-86F7-25C97757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3DC9-0C5B-4C8C-A730-8E0C9A84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25B4-3842-4DEA-B283-A567F3CB3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criticalquestions.doc" TargetMode="External"/><Relationship Id="rId2" Type="http://schemas.openxmlformats.org/officeDocument/2006/relationships/hyperlink" Target="http://www.dhmo.org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060640"/>
            <a:ext cx="9144000" cy="17287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Internet Search Skil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Why develop Internet search skil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22960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ind what you are looking f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ind it f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search results are likely to be more accu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rnet is the largest library in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access information you might not get lo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search and access multiple types of media (text, images, video or audio fi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Different types of 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com – these are usually American company websites which are often trying to sell you stuf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org – this is an organisation such as a non-profit organisation or club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.ac – this is an academic site, usually for a univers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.co.nz – this is for a company in New Zea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.au – this is for Austra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.uk – this is for United King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.ca – this is for Ca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Search Eng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arch engin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a tool that finds information across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l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ere are some of the main search engi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Goo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gpil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k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ahoo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avista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lusty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ining your search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4920" y="981000"/>
            <a:ext cx="84978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arch options -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lick on the correct tab for your search e.g. image, news, web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hras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use a phrase if you want a wide sear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eyword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to limit your search use one or two keywor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ing quote marks 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want to group words together then put them in quote marks i.e.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New Zealand Flag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ry different word combination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.e,  instead of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“american leader”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try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“american presiden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Key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people learn how to choose key words by trial and err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ajority of us use a combination of key words and scan the search results for relevant topics, looking at the highlighted words and web address (ur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I wanted to know the statistics for shark attacks in New Zealand, I would use the following sear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ark attacks statistics New Zea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you know if a website is legitim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1360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out a range of websites and compare the information contained within th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ll maintained sites often ha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act details that allow you to make enquiries or to advise of problem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date when the site was last upd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gitimate sites often contain links to other legitimate or popular sites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0" lang="en-GB" sz="24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CAMPE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el to ask critical questions of the information contained within a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out </a:t>
            </a:r>
            <a:r>
              <a:rPr b="0" lang="en-US" sz="24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dhmo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05:26:52Z</dcterms:created>
  <dc:creator>Alex</dc:creator>
  <dc:description/>
  <dc:language>en-US</dc:language>
  <cp:lastModifiedBy>Nina Boyes</cp:lastModifiedBy>
  <dcterms:modified xsi:type="dcterms:W3CDTF">2009-03-29T20:48:46Z</dcterms:modified>
  <cp:revision>40</cp:revision>
  <dc:subject/>
  <dc:title>Internet Search Skills</dc:title>
</cp:coreProperties>
</file>